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1D0-F597-4A98-9E46-B81F1EAB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884-F225-4AFF-92A2-D585F440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D26-AC6A-4B8D-8CE9-3D9A6645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135-443D-48D3-9872-B21896B9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73E-6580-48E8-ABC2-36CE62A2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24D-C6F6-42E5-84AE-3612A993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FFB-0553-48BA-AF65-6693CE37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701D-2AD3-4762-BC5D-FEAEE660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0BD7-00D3-471E-8099-01920D2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1B3-0113-4379-9C4E-A0FC9FB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F9A2-3C10-489C-BC67-89673A6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45D-2383-42A5-857A-AF2AC1B6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D5D6-98BF-4294-8650-00F281C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88D-C32F-4AC4-87BD-116C89E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42E-1073-43A9-9315-59372EBA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1D9B-E75F-4210-AFAC-EAEB423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7C1C-E469-441F-8DC5-1BEEC851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B5B-5254-4391-96FA-0A3A35DF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C0C-3359-4D76-A7EC-31EE262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544-C586-4C3D-A1CA-3423616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DB9-B744-4B9B-9DEF-D01983F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C6B-6780-4568-B2B2-5E5E3C6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0CB-972B-4FE7-8E6E-38B5CEB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06E-1F36-418F-B41F-36D5507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C31-EBFA-4576-AE39-84C14414BF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FBEC-F545-400A-8432-9B26378033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701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25 de febrero del 2016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991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Propósito # 50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7030a0"/>
                </a:solidFill>
                <a:latin typeface="Verdana"/>
              </a:rPr>
              <a:t>L.O.- to review stem-changing verb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verbos de cambio rad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97180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28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3520" y="476568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28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li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9"/>
          <p:cNvSpPr/>
          <p:nvPr/>
        </p:nvSpPr>
        <p:spPr>
          <a:xfrm>
            <a:off x="6546960" y="366696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pensá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629400" y="541980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mentí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95580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jercici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. 1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5.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iz 3: Capitul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ND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-changing verb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380880" y="2666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6-02-24T19:02:17Z</cp:lastPrinted>
  <dcterms:modified xsi:type="dcterms:W3CDTF">2016-02-25T19:51:49Z</dcterms:modified>
  <cp:revision>45</cp:revision>
  <dc:subject/>
  <dc:title>Me llamo __________   Clase 7IM La fecha es el 2 de diciembre del 2010</dc:title>
</cp:coreProperties>
</file>